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010-6504-4E54-98B8-0A260DA0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F18-240D-4B7F-B29D-73D9F95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264-F18F-4196-981C-6A36518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BD6-8919-448C-9E65-53D08962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358-09AB-42AB-ABC9-49DDE55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C70-8A35-4785-BAE1-0C4B789B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421-4F58-4FE9-AE6A-DE569EE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D54-9D08-4CC1-9ADA-64BBF344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3C7-3D50-4139-9206-6E44A428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A8E-328D-4C45-9609-31C56CB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B30-224E-4B92-87DE-4E27341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F2F-6490-40FC-AF74-DE9A5644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1886-3137-4969-9474-857E11018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ffff00"/>
                </a:solidFill>
                <a:latin typeface="Arial"/>
              </a:rPr>
              <a:t>Jeopardy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930240" y="1692360"/>
            <a:ext cx="848988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042920" y="1996920"/>
            <a:ext cx="1432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668680" y="1996920"/>
            <a:ext cx="1520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362480" y="1996920"/>
            <a:ext cx="1431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039000" y="1996920"/>
            <a:ext cx="1430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647120" y="1996920"/>
            <a:ext cx="1515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976320" y="28447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042920" y="36529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042920" y="44989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042920" y="53452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042920" y="61927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838600" y="284472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224760" y="284472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4532400" y="284472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834320" y="284472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838600" y="36910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532400" y="36910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6224760" y="369108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834320" y="36910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2838600" y="445284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4446720" y="445284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6199200" y="445284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834320" y="45370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838600" y="529920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4532400" y="53848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6224760" y="538488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7834320" y="53848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4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2838600" y="62308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4532400" y="6230880"/>
            <a:ext cx="112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6224760" y="6230880"/>
            <a:ext cx="11239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7834320" y="6230880"/>
            <a:ext cx="112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Q $5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5" descr=""/>
          <p:cNvPicPr/>
          <p:nvPr/>
        </p:nvPicPr>
        <p:blipFill>
          <a:blip r:embed="rId3"/>
          <a:stretch/>
        </p:blipFill>
        <p:spPr>
          <a:xfrm>
            <a:off x="7502400" y="7016760"/>
            <a:ext cx="2244960" cy="53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6"/>
          <p:cNvSpPr/>
          <p:nvPr/>
        </p:nvSpPr>
        <p:spPr>
          <a:xfrm>
            <a:off x="7567560" y="7083360"/>
            <a:ext cx="2117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Final Jeopar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894040" y="2448000"/>
            <a:ext cx="43448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ory clue for spelling des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689200" y="2441520"/>
            <a:ext cx="40464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 can think of the double </a:t>
            </a:r>
            <a:r>
              <a:rPr b="0" lang="en-US" sz="37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 as a second helping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155680" y="3570120"/>
            <a:ext cx="68058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Abingdon or Abingt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568520" y="2252520"/>
            <a:ext cx="5421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ingd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990880" y="2438280"/>
            <a:ext cx="3828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 or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ther changes every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967040" y="2271600"/>
            <a:ext cx="4865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lse, because weather changes every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482920" y="2540160"/>
            <a:ext cx="38718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erence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ffffff"/>
                </a:solidFill>
                <a:uFillTx/>
                <a:latin typeface="Times New Roman"/>
              </a:rPr>
              <a:t>Beside-</a:t>
            </a:r>
            <a:r>
              <a:rPr b="0" lang="en-US" sz="53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en-US" sz="5300" spc="-1" strike="noStrike" u="sng">
                <a:solidFill>
                  <a:srgbClr val="ffffff"/>
                </a:solidFill>
                <a:uFillTx/>
                <a:latin typeface="Times New Roman"/>
              </a:rPr>
              <a:t>Besides-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076480" y="2743200"/>
            <a:ext cx="4665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esi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 “next to.”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esid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eans “in addition to” or “ex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295800" y="2946240"/>
            <a:ext cx="333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ud or out 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2143080" y="3571920"/>
            <a:ext cx="33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147760" y="3608280"/>
            <a:ext cx="466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Use ____ or ____  to refer to people; use ____ or 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____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to refer to animals, objects, or concep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143080" y="3571920"/>
            <a:ext cx="3333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uld you write out 188 in numbers or lett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787480" y="2336760"/>
            <a:ext cx="397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mbers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that can be said in two words or less should be written out as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787480" y="2336760"/>
            <a:ext cx="3332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you use instead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ut lou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193920" y="2540160"/>
            <a:ext cx="333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482920" y="2235240"/>
            <a:ext cx="33321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use to enclose a quotation within a quo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685960" y="2743200"/>
            <a:ext cx="333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le qu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o u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of the time, as a pre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suspicion a nou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2143080" y="3571920"/>
            <a:ext cx="33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E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076480" y="3570120"/>
            <a:ext cx="50371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143080" y="3571920"/>
            <a:ext cx="33339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husiastic, can you shorten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397320" y="2946240"/>
            <a:ext cx="3332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p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!!!!!!!!!!!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684520" y="2133720"/>
            <a:ext cx="50385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ople who have light or fair skin are.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787480" y="2844720"/>
            <a:ext cx="4170600" cy="21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ight-complexion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o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omplecte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482920" y="2235240"/>
            <a:ext cx="3276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u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a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78000" y="2133720"/>
            <a:ext cx="33321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u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efers to anything addition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 Further study will be necessary. I do not wish to discuss it fur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art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efers to dist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 Sam lives  farther from school than I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185840" y="2301840"/>
            <a:ext cx="6705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889280" y="2428920"/>
            <a:ext cx="65228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i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“false impression” or “deceptive appearanc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          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. Make-up can create an illusion of youth. Optical illusions are fun to exam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allus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 “indirect reference to something or someone generally familiar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          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. Poets make many allusions to mytholo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498840" y="2743200"/>
            <a:ext cx="333216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Difference between role and ro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571760" y="2724120"/>
            <a:ext cx="57258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roll for every use except “playing a part.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151000" y="3568680"/>
            <a:ext cx="55594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subjects are capitaliz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t tense of L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397320" y="2946240"/>
            <a:ext cx="367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3193920" y="2743200"/>
            <a:ext cx="3332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 of accept and excep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1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974960" y="1924200"/>
            <a:ext cx="652140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ffffff"/>
                </a:solidFill>
                <a:uFillTx/>
                <a:latin typeface="Arial"/>
              </a:rPr>
              <a:t>Accept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= “to receive willingly” ex. I accepted the gif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ffffff"/>
                </a:solidFill>
                <a:uFillTx/>
                <a:latin typeface="Arial"/>
              </a:rPr>
              <a:t>Except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= “to exclude or but” ex. Everybody who was late except me was exempt from the penalty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787480" y="3149640"/>
            <a:ext cx="33321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finition of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Prerogativ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295800" y="2336760"/>
            <a:ext cx="333216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ight or privilege because of age, rank, clas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143080" y="3571920"/>
            <a:ext cx="33339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"good" an adjective or a ver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482920" y="2844720"/>
            <a:ext cx="5194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990880" y="2946240"/>
            <a:ext cx="3332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wo u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3397320" y="2743200"/>
            <a:ext cx="3332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you are using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2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568520" y="2336760"/>
            <a:ext cx="6522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guages and subjects that are followed by numbers. Ex.) French, English I, Spanish, Algebra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Question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2143080" y="3571920"/>
            <a:ext cx="3333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oo u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500 Answer from H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3295800" y="2743200"/>
            <a:ext cx="33321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re is extra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Final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50720" y="2031840"/>
            <a:ext cx="94996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author wrote, “If one man kills anoth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murder, but if a hundred thousand men 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hundred thousand, it is considered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 of glory!?”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8296200" y="6518160"/>
            <a:ext cx="339840" cy="341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Final Jeopardy Answ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720800" y="3124080"/>
            <a:ext cx="456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Who is Tolstoy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The book is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Kingdom of God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974960" y="2540160"/>
            <a:ext cx="58370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s are not appropraite to overuse in formal wri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3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187720" y="2741760"/>
            <a:ext cx="4649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lamation points and question mar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Question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789280" y="2444760"/>
            <a:ext cx="42368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abandon and ari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cc66"/>
                </a:solidFill>
                <a:latin typeface="Arial"/>
              </a:rPr>
              <a:t>$400 Answer from H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22280" y="6603840"/>
            <a:ext cx="1017720" cy="762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143080" y="3571920"/>
            <a:ext cx="33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arah</cp:lastModifiedBy>
  <dcterms:modified xsi:type="dcterms:W3CDTF">2010-05-19T00:23:51Z</dcterms:modified>
  <cp:revision>1</cp:revision>
  <dc:subject/>
  <dc:title>PowerPoint Presentation</dc:title>
</cp:coreProperties>
</file>